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AEE-7D15-4E79-97FB-210DE387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685-F8F0-48BB-8BE2-51E6EC6C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CFC-3B86-4CC8-B163-A96D4750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8F7-BBE1-4882-A0BC-738DEF45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AE0-2EE2-4232-8D66-B409E9C1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B76B-2D9A-4B7E-8C25-CC7EAF87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A887-1605-4D5E-8D06-C4052AF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B4A2-2971-4E38-86A5-408A217F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FA8A-1E4F-4E1A-8226-2983F8D1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3765-565E-4A5D-AAB1-6E0C020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1343-2FE2-46ED-83B2-6CEE44EF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DEA-F0A4-42F0-8094-6BD5A07F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458B-0B37-4510-8D4F-4D141E6B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05C5-9762-4638-8473-FB5F5EF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EDB1-5CF1-4182-91D2-D58E07F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483D-9B44-40B4-978A-07288B56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5F9-5881-4F7A-AEE0-486AB8F1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C16-69A3-4779-817A-A2A01FA1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BAE-987A-4D72-A066-624E550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D48-BC4F-4C2E-AFD1-7D4036B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91F-9DF7-45A5-AB5A-21045107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D3D-B42D-4735-A8FD-B075A83B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967-20CE-4DDA-86AC-A8802BFD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5DB-DC15-4C98-8FE2-C840A7C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F6D9-1DA8-4983-A0F0-68DA19E93F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31FE-B105-433A-A4BA-F6BA2CD6E2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POSITION OF      TAMARA SAVE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2279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094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And how did these responses come to you?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9810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f I recall, these were, again, sent to me from Carol Dav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352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And when you signed this version, did you review any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5105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No.  I did not review the docu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64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2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16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So then it would follow that you did not in fact write any of the response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at are in there; is that corr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124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That i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40384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And so now we need to go back to how did you make the determination that this was true and corr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8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6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made the determination that it was true and correct based off the research and the research done by the person who entered the ans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Who would that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0384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This came to me from Carol Davis who is a paralegal in our Des Moines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64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36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094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I’m going to read just the statement that’s on the verification.  I have read the above and foregoing Objections and Answers to Plaintiff’s Interrogatories, and the facts set therein are, to the best of my knowledge, true and correct.  Is that accu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4343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That is accu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5181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Did you read these interrogat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72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4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did read the interrogatories, 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0574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And at the time that you signed this, did you believe the facts contained there to be true and corr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419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At the time I signed it, I believed it to be true and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6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4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1219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Tell me why you believed it to be true and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26668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Okay.  The reason I believed it to be true and correct, relying on the personnel and expertise of others that reviewed this to be accurate.  And, to go a little bit further, we realized that it was a mistak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96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914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Have you ever relied on someone else’s representation in signing a verif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666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ha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3505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343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Uh-hu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181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How many tim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88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24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68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8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8380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Yes, excuse me.  I couldn’t tell you that.  I couldn’t guesstimate on how many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590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Would it be every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352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1148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In the times that you have not relied on somebody else’s representation, what was the process for verifying a docu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88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76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What I would use to verify documentation would be the Fidelity System that I use on a daily basis, it’s one of our software systems, documentation that’s imaged on our system.  And it depends on what I’m being asked to verify as to what I would look at to answer that – to answer that particula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, so knowing that to be the difference, you didn’t look at any screen that would indicate whether there was an investor; is that corr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124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At the time of signing this,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038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Have you ever seen the note in this c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5257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h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8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96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40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EXCERPTS FROM DEPOSITION OF                    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TAMARA SAVERY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WELLS FARGO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Have you in fact brought the note here to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We do have a copy of the note, yes, we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8862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Is – is it the original note in this c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5257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Yes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60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4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2438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Do you believe it to be true and correct in every resp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038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20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2193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Have you been involved in any of the research that is referenced anywhere in these amended interrogat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581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have been involved in research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029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Such 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96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76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12952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Part of what I participated in in gathering information – let me rephrase from saying research, but gathering information; I would rephrase that to gathering information – in preparation for – and not these answers.  So I’m going to say no.  I’m going to retract that and say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762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What information have you gathe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1337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nformation – gathered information such as, you know, check copies where payments were made as far as fees on account, you know, different information pertaining – the request that was required from us, documentation, I assisted in locating that information in preparation for – for this file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6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1295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And who did you assi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209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assisted Carol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124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You assisted Carol Dav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962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876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She’s not in Dallas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80"/>
                            </p:stCondLst>
                            <p:childTnLst>
                              <p:par>
                                <p:cTn id="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76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76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200"/>
                            </p:stCondLst>
                            <p:childTnLst>
                              <p:par>
                                <p:cTn id="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1295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Is it typical for a claim to omit any reference to the entity for whom it is servic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3124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cannot answer th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962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And you cannot answer that, is it because you’re unfamiliar with generally; is that r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88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19810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n – correct.  You know, I could answer to perhaps what would be in front of me and if I could say that is typical.  But as far as, you know, knowing exactly if it is or if it isn’t, I cannot answer th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3716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And then it would also be accurate to say that you cannot answer whether Wells Fargo instructs its attorneys generally to reference the owner of a loan as opposed to simply listing its own name on a clai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876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4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5238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So you didn’t review the claim when you signed the verification; correct?  Did you – and you didn’t review any other document when you signed the verif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419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60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EPOSITION OF                    TAMARA SAVER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8862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LY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685800"/>
            <a:ext cx="83822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x Gardner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ankruptcy Boot Cam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4.418.2628 (Max Dir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bankruptcybootcamp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gardnerlaw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gardner@maxgardner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143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Why did you believe this version to be true and complete?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666880"/>
            <a:ext cx="7696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 Because again, I relied on the expertise and the – the investigation of the prior person reviewing this information.  And the first – in looking at the amended complaint, it did state that we were not the owner of the note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0666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 And I do believe the person reviewing this information was not fully using their full scope of reviewing the documentation, and it was simply a mistake.  But once we realized that, we correcte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419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 How do you know that it was a mist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64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0666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 Because after it was – it – in discussions with this, after it was explained to me that we realized that certain documentation was not reviewed, it was a lack of reviewing the proper docum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419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 Do you know what documentation was review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64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8580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 Particularly what documentation was reviewed, I cannot.  I can speculate as to how they may have – how this answer prior to the amended answer may have come about, but I’m specul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96252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So then sort of same for both, if I’m understanding correctly, that you executed a verification without having reviewed anything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2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Do you recognize that as your signature?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514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I do, yes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352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And is that the verification you signed in connection with these amended responses?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181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Yes, sir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92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88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What’s the date on that?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371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The date is June 12,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209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Okay.  Would that be the day that you first saw these amended responses?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5053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4343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. So you didn’t write these responses either; is that correct?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638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.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2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8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6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16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7:38:15Z</dcterms:created>
  <dc:creator> </dc:creator>
  <dc:description/>
  <dc:language>en-US</dc:language>
  <cp:lastModifiedBy> </cp:lastModifiedBy>
  <dcterms:modified xsi:type="dcterms:W3CDTF">2010-12-27T22:28:29Z</dcterms:modified>
  <cp:revision>34</cp:revision>
  <dc:subject/>
  <dc:title>EXCERPTS FROM DEPOSITION OF                    BETH ANN COTTRELL</dc:title>
</cp:coreProperties>
</file>